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3208E-FC4D-453E-8869-4E4EADEDC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A2BAF-B836-46F9-B4B6-AFF0BE937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53572-9DA8-4F8D-85DC-6CC0EB15D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1F139-310D-4FB0-819C-BD05BEE24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18132-F734-421F-BD19-66E8E9B8A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4CDA4-0D39-4337-9B9A-702EF9457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ABF20-DDD2-40B7-9125-841DC6C46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DC3B5-CC7D-40C3-9152-7AC3A9A90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7A1CF-42EF-4EF1-88B0-4952D3CED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762C8-79F2-4766-9FB6-CA025DAAE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7BE18-7781-47F4-9B2D-E4241AD3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58ADF-52B4-44C0-BB1F-70EE1105C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53869-4D6C-40E9-917A-4F4A1195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7B239-4F7E-4AB4-B45A-39B0E317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D65DE-01C9-4A42-B7C6-860FD6448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A800D-7017-4D64-ACAD-45C60E7DB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746F7-A455-4765-88F6-53E2B280A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E71FC-A66D-47E8-9AF0-DBFAA437A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F985C-9539-4F2F-86BC-43589214C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0AAF3-B556-4A8C-A40A-EC6420BA9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0F584-481F-4554-88F8-27C9C2F60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562BB-BD9D-4978-AB56-F072A065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B7CD6-408B-4997-8982-62FFF1F8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12F19-78C1-4602-A2FF-A726ACEA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B4B6E-943A-4FB7-A467-EA1C64112D5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46C83-C5A8-42FF-B145-D07D9520CF2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uz.wikipedia.org/wiki/Tasvir:TajMahalbyAmalMongia.jp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uz.wikipedia.org/w/index.php?title=Toj_Mahal&amp;action=edit&amp;redlink=1" TargetMode="External"/><Relationship Id="rId4" Type="http://schemas.openxmlformats.org/officeDocument/2006/relationships/hyperlink" Target="http://uz.wikipedia.org/w/index.php?title=Toj_Mahal&amp;action=edit&amp;redlink=1" TargetMode="External"/><Relationship Id="rId5" Type="http://schemas.openxmlformats.org/officeDocument/2006/relationships/hyperlink" Target="http://uz.wikipedia.org/w/index.php?title=Toj_Mahal&amp;action=edit&amp;redlink=1" TargetMode="External"/><Relationship Id="rId6" Type="http://schemas.openxmlformats.org/officeDocument/2006/relationships/hyperlink" Target="http://uz.wikipedia.org/w/index.php?title=Agra&amp;action=edit&amp;redlink=1" TargetMode="External"/><Relationship Id="rId7" Type="http://schemas.openxmlformats.org/officeDocument/2006/relationships/hyperlink" Target="http://uz.wikipedia.org/wiki/Hindiston" TargetMode="External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uz.wikipedia.org/wiki/Tasvir:Paris_06_Eiffelturm_4828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uz.wikipedia.org/wiki/Eyfel_minorasi" TargetMode="External"/><Relationship Id="rId4" Type="http://schemas.openxmlformats.org/officeDocument/2006/relationships/hyperlink" Target="http://uz.wikipedia.org/wiki/Eyfel_minorasi" TargetMode="External"/><Relationship Id="rId5" Type="http://schemas.openxmlformats.org/officeDocument/2006/relationships/hyperlink" Target="http://uz.wikipedia.org/wiki/Eyfel_minorasi" TargetMode="External"/><Relationship Id="rId6" Type="http://schemas.openxmlformats.org/officeDocument/2006/relationships/hyperlink" Target="http://uz.wikipedia.org/wiki/Parij" TargetMode="External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z.wikipedia.org/wiki/Tasvir:El_Castillo,_Chich&#233;n_Itz&#225;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uz.wikipedia.org/w/index.php?title=Chichen_Itsa&amp;action=edit&amp;redlink=1" TargetMode="External"/><Relationship Id="rId4" Type="http://schemas.openxmlformats.org/officeDocument/2006/relationships/hyperlink" Target="http://uz.wikipedia.org/w/index.php?title=Chichen_Itsa&amp;action=edit&amp;redlink=1" TargetMode="External"/><Relationship Id="rId5" Type="http://schemas.openxmlformats.org/officeDocument/2006/relationships/hyperlink" Target="http://uz.wikipedia.org/w/index.php?title=Chichen_Itsa&amp;action=edit&amp;redlink=1" TargetMode="External"/><Relationship Id="rId6" Type="http://schemas.openxmlformats.org/officeDocument/2006/relationships/hyperlink" Target="http://uz.wikipedia.org/w/index.php?title=Yukatan&amp;action=edit&amp;redlink=1" TargetMode="External"/><Relationship Id="rId7" Type="http://schemas.openxmlformats.org/officeDocument/2006/relationships/hyperlink" Target="http://uz.wikipedia.org/wiki/Meksika" TargetMode="External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z.wikipedia.org/wiki/Tasvir:CorcovadofotoRJ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uz.wikipedia.org/w/index.php?title=Isoning_haykali&amp;action=edit&amp;redlink=1" TargetMode="External"/><Relationship Id="rId4" Type="http://schemas.openxmlformats.org/officeDocument/2006/relationships/hyperlink" Target="http://uz.wikipedia.org/w/index.php?title=Isoning_haykali&amp;action=edit&amp;redlink=1" TargetMode="External"/><Relationship Id="rId5" Type="http://schemas.openxmlformats.org/officeDocument/2006/relationships/hyperlink" Target="http://uz.wikipedia.org/w/index.php?title=Isoning_haykali&amp;action=edit&amp;redlink=1" TargetMode="External"/><Relationship Id="rId6" Type="http://schemas.openxmlformats.org/officeDocument/2006/relationships/hyperlink" Target="http://uz.wikipedia.org/w/index.php?title=Rio_de_Janeyro&amp;action=edit&amp;redlink=1" TargetMode="External"/><Relationship Id="rId7" Type="http://schemas.openxmlformats.org/officeDocument/2006/relationships/hyperlink" Target="http://uz.wikipedia.org/w/index.php?title=Rio_de_Janeyro&amp;action=edit&amp;redlink=1" TargetMode="External"/><Relationship Id="rId8" Type="http://schemas.openxmlformats.org/officeDocument/2006/relationships/hyperlink" Target="http://uz.wikipedia.org/w/index.php?title=Rio_de_Janeyro&amp;action=edit&amp;redlink=1" TargetMode="External"/><Relationship Id="rId9" Type="http://schemas.openxmlformats.org/officeDocument/2006/relationships/hyperlink" Target="http://uz.wikipedia.org/w/index.php?title=Rio_de_Janeyro&amp;action=edit&amp;redlink=1" TargetMode="External"/><Relationship Id="rId10" Type="http://schemas.openxmlformats.org/officeDocument/2006/relationships/hyperlink" Target="http://uz.wikipedia.org/w/index.php?title=Rio_de_Janeyro&amp;action=edit&amp;redlink=1" TargetMode="External"/><Relationship Id="rId11" Type="http://schemas.openxmlformats.org/officeDocument/2006/relationships/hyperlink" Target="http://uz.wikipedia.org/wiki/Braziliya" TargetMode="External"/><Relationship Id="rId1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z.wikipedia.org/wiki/Tasvir:Colosseum_in_Rome,_Italy_-_April_2007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uz.wikipedia.org/wiki/Kolizey" TargetMode="External"/><Relationship Id="rId4" Type="http://schemas.openxmlformats.org/officeDocument/2006/relationships/hyperlink" Target="http://uz.wikipedia.org/wiki/Rim" TargetMode="External"/><Relationship Id="rId5" Type="http://schemas.openxmlformats.org/officeDocument/2006/relationships/hyperlink" Target="http://uz.wikipedia.org/wiki/Italiya" TargetMode="External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uz.wikipedia.org/wiki/Tasvir:GreatWallNearBeijingWinter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uz.wikipedia.org/w/index.php?title=Buyuk_Xitoy_devori&amp;action=edit&amp;redlink=1" TargetMode="External"/><Relationship Id="rId4" Type="http://schemas.openxmlformats.org/officeDocument/2006/relationships/hyperlink" Target="http://uz.wikipedia.org/w/index.php?title=Buyuk_Xitoy_devori&amp;action=edit&amp;redlink=1" TargetMode="External"/><Relationship Id="rId5" Type="http://schemas.openxmlformats.org/officeDocument/2006/relationships/hyperlink" Target="http://uz.wikipedia.org/w/index.php?title=Buyuk_Xitoy_devori&amp;action=edit&amp;redlink=1" TargetMode="External"/><Relationship Id="rId6" Type="http://schemas.openxmlformats.org/officeDocument/2006/relationships/hyperlink" Target="http://uz.wikipedia.org/w/index.php?title=Buyuk_Xitoy_devori&amp;action=edit&amp;redlink=1" TargetMode="External"/><Relationship Id="rId7" Type="http://schemas.openxmlformats.org/officeDocument/2006/relationships/hyperlink" Target="http://uz.wikipedia.org/w/index.php?title=Buyuk_Xitoy_devori&amp;action=edit&amp;redlink=1" TargetMode="External"/><Relationship Id="rId8" Type="http://schemas.openxmlformats.org/officeDocument/2006/relationships/hyperlink" Target="http://uz.wikipedia.org/wiki/Xitoy" TargetMode="External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uz.wikipedia.org/wiki/Tasvir:Peru_Machu_Picchu_Sunrise.jp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uz.wikipedia.org/w/index.php?title=Machu_Pikchu&amp;action=edit&amp;redlink=1" TargetMode="External"/><Relationship Id="rId4" Type="http://schemas.openxmlformats.org/officeDocument/2006/relationships/hyperlink" Target="http://uz.wikipedia.org/w/index.php?title=Machu_Pikchu&amp;action=edit&amp;redlink=1" TargetMode="External"/><Relationship Id="rId5" Type="http://schemas.openxmlformats.org/officeDocument/2006/relationships/hyperlink" Target="http://uz.wikipedia.org/w/index.php?title=Machu_Pikchu&amp;action=edit&amp;redlink=1" TargetMode="External"/><Relationship Id="rId6" Type="http://schemas.openxmlformats.org/officeDocument/2006/relationships/hyperlink" Target="http://uz.wikipedia.org/wiki/Peru" TargetMode="External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uz.wikipedia.org/wiki/Tasvir:Petra_Jordan_BW_21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uz.wikipedia.org/w/index.php?title=Petra&amp;action=edit&amp;redlink=1" TargetMode="External"/><Relationship Id="rId4" Type="http://schemas.openxmlformats.org/officeDocument/2006/relationships/hyperlink" Target="http://uz.wikipedia.org/wiki/Iordaniya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24000" y="333360"/>
            <a:ext cx="8820000" cy="136692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`ZBEKISTON RESPUBLIKASI OLIY VA O`RTA MAXSUS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`LIM VAZIRLIG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SHKENT DAVLAT IQTISODIYOT UNIVERSITE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59280" y="1700280"/>
            <a:ext cx="6084720" cy="24494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afedra: “Falsaf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n: “Estetika, etika, mantiq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4221000"/>
            <a:ext cx="8604360" cy="7192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VZU: Estetikaning tadqiqot doirasi, axloqning kelib chiqis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50920" y="4941720"/>
            <a:ext cx="7093080" cy="19162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jardi: IIT – 51 guruh talabasi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madiyorov Rust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kshirdi: kt o`qituvc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idov Aslid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95280" y="1484280"/>
            <a:ext cx="8748720" cy="244944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Абдулла Авлоний «Туркий гулистон ёхуд ахлоқ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рисоласини шундай бошлайди: «Ахлоқ инсонлар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яхшиликк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чақиргувчи, ёмонликдан қайтаргувч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бир илмдур. Яхши хулқларнинг яхшилигини, ём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хулқларнинг ёмонлигин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далил ва мисоллар ила баё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қиладурғон китобни ахлоқ дейилур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9640" y="620640"/>
            <a:ext cx="8209080" cy="6476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Фитратнинг фикрича..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TajMahalbyAmalMongi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4360" y="4076640"/>
            <a:ext cx="4680000" cy="27813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11280" y="4365720"/>
            <a:ext cx="3097080" cy="21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Toj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Mah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Agr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Hindis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24000" y="1413000"/>
            <a:ext cx="4752720" cy="5111640"/>
          </a:xfrm>
          <a:custGeom>
            <a:avLst/>
            <a:gdLst>
              <a:gd name="textAreaLeft" fmla="*/ 231840 w 4752720"/>
              <a:gd name="textAreaRight" fmla="*/ 4520880 w 4752720"/>
              <a:gd name="textAreaTop" fmla="*/ 231840 h 5111640"/>
              <a:gd name="textAreaBottom" fmla="*/ 4879800 h 5111640"/>
            </a:gdLst>
            <a:ahLst/>
            <a:rect l="textAreaLeft" t="textAreaTop" r="textAreaRight" b="textAreaBottom"/>
            <a:pathLst>
              <a:path w="21600" h="23231">
                <a:moveTo>
                  <a:pt x="3600" y="0"/>
                </a:moveTo>
                <a:arcTo wR="3600" hR="3600" stAng="16200000" swAng="-5400000"/>
                <a:lnTo>
                  <a:pt x="0" y="19631"/>
                </a:lnTo>
                <a:arcTo wR="3600" hR="3600" stAng="10800000" swAng="-5400000"/>
                <a:lnTo>
                  <a:pt x="18000" y="232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«Икки нарса ҳақида қанч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кўп, қанча узоқ ўйлаган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сари қалбинг тобора янг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тобора кучайиб борувч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ҳайрат в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ихлос билан тўли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тошаверади, булар – боши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устидаг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юлдузли осм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ва менинг ботинимда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ахлоқий қонун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9640" y="549360"/>
            <a:ext cx="8280360" cy="718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Кант айтадики..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Paris 06 Eiffelturm 4828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92720" y="1700280"/>
            <a:ext cx="3456000" cy="36734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364000" y="5589720"/>
            <a:ext cx="345600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Eyfel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minora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Parij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Fransiy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95280" y="1484280"/>
            <a:ext cx="8748720" cy="2521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Бу дунё кураш майдонидир. Бу майдоннин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қуроли соғлом жисму тан, ақл ва ахлоқдир. Ле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ана шу қурол-аслаҳамиз синиб, занг босиб, чири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кетган сари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ундай қуроллар билан бу дунёда бизга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ода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а на роҳат бор...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9640" y="620640"/>
            <a:ext cx="8209080" cy="7207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Ҳегель таърифлайд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Angkor wat temple.jpg"/>
          <p:cNvPicPr/>
          <p:nvPr/>
        </p:nvPicPr>
        <p:blipFill>
          <a:blip r:embed="rId1"/>
          <a:stretch/>
        </p:blipFill>
        <p:spPr>
          <a:xfrm>
            <a:off x="468360" y="4221000"/>
            <a:ext cx="4174920" cy="23036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932360" y="4365720"/>
            <a:ext cx="3240000" cy="21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Angk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Angkor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Kambo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549360"/>
            <a:ext cx="8567640" cy="316692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J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etikaning falsafiy  moxiya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xloq xaqida asosiy tushunchal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llomalarning bu fanga qo`shgan xissas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763640" y="3933720"/>
            <a:ext cx="561672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24000" y="1628640"/>
            <a:ext cx="8820000" cy="237672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2400" spc="-1" strike="noStrike">
                <a:solidFill>
                  <a:srgbClr val="000000"/>
                </a:solidFill>
                <a:latin typeface="Arial"/>
              </a:rPr>
              <a:t>Фалсафани азим дарахтга, чинорга қиё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z-Cyrl-UZ" sz="2400" spc="-1" strike="noStrike">
                <a:solidFill>
                  <a:srgbClr val="000000"/>
                </a:solidFill>
                <a:latin typeface="Arial"/>
              </a:rPr>
              <a:t>қилсак, унинг илдизи табиат ҳақидаги таълимотлар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2400" spc="-1" strike="noStrike">
                <a:solidFill>
                  <a:srgbClr val="000000"/>
                </a:solidFill>
                <a:latin typeface="Arial"/>
              </a:rPr>
              <a:t>пояси – мантиқ,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z-Cyrl-UZ" sz="2400" spc="-1" strike="noStrike">
                <a:solidFill>
                  <a:srgbClr val="000000"/>
                </a:solidFill>
                <a:latin typeface="Arial"/>
              </a:rPr>
              <a:t> меваси эса – этикадир.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арҳақиқа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илим – ақл булоғи, ахлоқ эса - ҳаё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ироғидир, ёки билим – хазина, ахлоқ э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фазилатди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42920" y="476280"/>
            <a:ext cx="8101080" cy="10080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Қадимги антик давр донишмандларининг фикр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El Castillo, Chichén Itzá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4149720"/>
            <a:ext cx="4608360" cy="2708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95280" y="4221000"/>
            <a:ext cx="2664000" cy="230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Chichen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It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Yukatan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Meks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24000" y="1268280"/>
            <a:ext cx="8820000" cy="2305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...инсон ҳақида ёқимли таассурот уйғотадига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лекин жамоа, жамият  ҳаётида бурилиш ясайдиг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даражад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муҳим аҳамиятга эга бўлмайдиган, милл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урф-одатларга асосланга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чиройли хатти-ҳаракатлар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ўз ичига олад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76360" y="549360"/>
            <a:ext cx="7343640" cy="5760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об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uz-Cyrl-U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CorcovadofotoRJ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3716280"/>
            <a:ext cx="3166920" cy="3141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211640" y="3716280"/>
            <a:ext cx="3529080" cy="28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Isoning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hayk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Rio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de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9"/>
              </a:rPr>
              <a:t>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10"/>
              </a:rPr>
              <a:t>Janeyro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11"/>
              </a:rPr>
              <a:t>Braziliy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24000" y="1484280"/>
            <a:ext cx="8820000" cy="2376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...оила, жамоа, маҳалла-кўй миқёсида аҳамиятли бўлга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аммо жамият ва инсоният ҳаётига сезиларли таъс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кўрсатмайдиган ёқимли инсоний хатти-ҳаракатларнин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мажму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00000" y="620640"/>
            <a:ext cx="7920000" cy="7207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Хулқ...</a:t>
            </a:r>
            <a:r>
              <a:rPr b="0" lang="uz-Cyrl-U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Colosseum in Rome, Italy - April 2007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67280" y="4076640"/>
            <a:ext cx="4465440" cy="2781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55640" y="4365720"/>
            <a:ext cx="3168720" cy="21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Koliz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Rim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Italiy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95280" y="1484280"/>
            <a:ext cx="8748720" cy="2808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...барча одамлар учун бирдек тааллуқл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ҳисобланган, шахс ҳаётидаги ҳамма соҳаларда ўзига 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ўзгаларга нисбатан қўйиладиган маънавий-ижтимои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талаблар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 ҳамда эҳтиёжларнинг муносабатлар шаклидаг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кўринишидан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 иборат бўлган, инсонга берилган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ихтиёр эканлигининг хатти-ҳаракатлар жараёнида ичк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ирода кучи томонидан оқилона чекланишини тақозо этувч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маънавий ҳодис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1280" y="476280"/>
            <a:ext cx="8208720" cy="8636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Ахлоқ</a:t>
            </a:r>
            <a:r>
              <a:rPr b="0" lang="uz-Cyrl-UZ" sz="24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uz-Cyrl-U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GreatWallNearBeijingWinte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4437000"/>
            <a:ext cx="4680000" cy="2421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435640" y="4581360"/>
            <a:ext cx="2881440" cy="19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Buyuk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Xitoy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dev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Xito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68360" y="1484280"/>
            <a:ext cx="8675640" cy="2376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«Билгилким, ҳамма касбларга бирдай тааллуқ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қисқача қоида-адаблар мавжуд, шунингдек, ҳар би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касб учун алоҳида одоб ҳам бор. Агар бар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касблар учу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зарурий одоблар хулосани нечт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деб сўрасалар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тўртт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(саккизта) деб айтгил:</a:t>
            </a:r>
            <a:r>
              <a:rPr b="0" lang="uz-Cyrl-U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1280" y="620640"/>
            <a:ext cx="8532720" cy="6476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Ҳусайн Воиз Кошифий ёзади:</a:t>
            </a:r>
            <a:r>
              <a:rPr b="0" lang="uz-Cyrl-U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Peru Machu Picchu Sunris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4076640"/>
            <a:ext cx="3960720" cy="244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932360" y="4292640"/>
            <a:ext cx="309564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Machu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Pikch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Pe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187280" y="549360"/>
            <a:ext cx="7956720" cy="93492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ўз касбини ҳаромдан, шубҳали мол-маблағд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пок сақлас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549360"/>
            <a:ext cx="720720" cy="934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87280" y="1700280"/>
            <a:ext cx="7956720" cy="144144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ризқ-рўзи зарурати учунгина керакли кас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билан шуғуллансин, касбни мол-дунё тўплашг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сарфламас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87280" y="3284640"/>
            <a:ext cx="7956720" cy="10080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сбни обрў олиш, яхши ном чиқаришнинг сабаб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б билс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87280" y="4508640"/>
            <a:ext cx="7956720" cy="1368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и ҳаром одамлар (амалдорлар, порахўрла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қароқчилар, ўғрилар, қиморбозлар, каззо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ўкондорлар)билан муомала қилмасин..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1916280"/>
            <a:ext cx="720720" cy="11523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4000" y="3357720"/>
            <a:ext cx="720720" cy="934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4000" y="4581360"/>
            <a:ext cx="720720" cy="12240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5280" y="1484280"/>
            <a:ext cx="8748720" cy="2376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...одоблилик – хушхулқлиликка, хушхулқлилик – юкс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ахлоқийликка айланган каби, ахлоқий тарбия йўлг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қўйилмаган жойда муайян шахс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вақти келиб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одобсизликдан – бадхулқлиликка, бадхулқлиликдан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ахлоқсизликка ўтиши мумки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549360"/>
            <a:ext cx="8209080" cy="7920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Ахлоқий тарбия натижасида..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Petra Jordan BW 2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4720" y="4076640"/>
            <a:ext cx="4390920" cy="2781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971640" y="4437000"/>
            <a:ext cx="3024000" cy="20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Pet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Iordaniy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3T17:02:26Z</dcterms:created>
  <dc:creator>Talaba</dc:creator>
  <dc:description/>
  <dc:language>en-US</dc:language>
  <cp:lastModifiedBy>USER_CHIP</cp:lastModifiedBy>
  <dcterms:modified xsi:type="dcterms:W3CDTF">2011-12-07T04:03:45Z</dcterms:modified>
  <cp:revision>2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